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47F-2979-4C69-ADFA-07B86B5A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1D9-11E3-491B-BD93-BDA5593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9BE-F249-48A8-9302-BE63FCAB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84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2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496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84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2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3AD-EBFC-431C-B36E-24E809EF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EA5E-5CC7-4996-8CFE-C939515A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320C-A5DB-4C6C-AEA5-CFE0714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657E-F130-401D-99F1-83C8C20D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98F-AC80-4615-A260-5C0FBD4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B0F9-1B93-445E-BFFF-B541C7F3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640080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BFFE-CD53-455B-8150-4CDD6C9A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95F4-15DF-4FD3-9814-AC14CCC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355-BF10-4823-A487-1D34571F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C63D-058F-4851-B5BA-0ACAE882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3C47-B2F3-4B26-B119-15CF8B7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CA0-AA77-4451-9EF8-0BFBF75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55FB-4008-44BB-9728-2C852FA8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84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072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496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84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072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71A1-9808-401D-9AE6-A8F600AA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597-8586-45FE-B8D4-A03ADAB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82F-C8DC-4327-88B8-2BC55377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CE8-19CF-4E52-9978-F680D19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640080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F6E-D540-46FA-8687-16E7B43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537-C0BC-4180-98DD-9E3ADA8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E2B-CB70-4882-97A7-BCE9230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04C-FFEB-42F5-8468-AB1E496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323-315B-4CB2-AF5E-C2E6F70CB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9DBE-6CB7-47CC-97C8-45D2A19B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191120"/>
            <a:ext cx="5408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Tom Pal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…a new stadium they will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…the books I just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…a building standing very 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…some children running in the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…a triangle they wil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…chocolate chips I’m keeping w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…a basketball team not too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…the minutes I will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…the knocks on my front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ht…spiders across the kitchen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8:34:01Z</dcterms:created>
  <dc:creator>Carol Kane</dc:creator>
  <dc:description/>
  <dc:language>en-US</dc:language>
  <cp:lastModifiedBy>Tom Palumbo</cp:lastModifiedBy>
  <dcterms:modified xsi:type="dcterms:W3CDTF">2009-02-26T19:37:28Z</dcterms:modified>
  <cp:revision>3</cp:revision>
  <dc:subject/>
  <dc:title>Numbers That  Rhyme And More</dc:title>
</cp:coreProperties>
</file>